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F4E-F2AB-40DF-B61E-D3858C10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368-3B49-490F-8BE3-B20AE6B4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050-FA56-4C76-8E75-B07455CA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15B-53FE-4B47-84E4-89B1C64E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10B-5E89-4B2F-BD82-96E368CD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E71-0F30-46DC-AE29-2E8F889E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123-7246-4F4D-82B4-C259DC53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403-BEDA-43A4-8ABF-FF0C79A2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92B-6967-4842-B5DB-15B1E1A7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D492-FEDF-4BCD-833A-668A3DFC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091-E8E4-49FC-B129-E1BA2274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C59-C80A-4AFC-8220-563204FF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CEAF-7316-4733-8BD5-EEA267243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cc"/>
                </a:solidFill>
                <a:latin typeface="Arial"/>
              </a:rPr>
              <a:t>Тема: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составных уравнени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58920" y="1341000"/>
            <a:ext cx="4259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·3=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628640" y="1341360"/>
            <a:ext cx="143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у-4</a:t>
            </a: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143080" y="11430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132000" y="2276640"/>
            <a:ext cx="44643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=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1554120" y="220500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2274840" y="299736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786120" y="3071880"/>
            <a:ext cx="22320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2710800" y="386064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=5+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2778480" y="4724280"/>
            <a:ext cx="13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=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071800" y="192888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1692360" y="404640"/>
            <a:ext cx="640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·3=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2268360" y="26028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203640" y="26028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5" descr="http://festival.1september.ru/articles/505630/img1.gif"/>
          <p:cNvPicPr/>
          <p:nvPr/>
        </p:nvPicPr>
        <p:blipFill>
          <a:blip r:embed="rId1"/>
          <a:stretch/>
        </p:blipFill>
        <p:spPr>
          <a:xfrm>
            <a:off x="1500120" y="1071720"/>
            <a:ext cx="6286680" cy="54291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6"/>
          <p:cNvSpPr/>
          <p:nvPr/>
        </p:nvSpPr>
        <p:spPr>
          <a:xfrm>
            <a:off x="714240" y="28584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 Black"/>
              </a:rPr>
              <a:t>Алгоритм решения составных уравн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2746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разбить данные записи на группы и обосновать своё реше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· 9 = 63                   в     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: 18                         20 · у + 50 = 8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+б      45 · 2             а+6 – 45 · 2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1428840" y="4000680"/>
            <a:ext cx="35712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4714920" y="2857680"/>
            <a:ext cx="35712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1500120" y="1357200"/>
            <a:ext cx="478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а : 1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2357280" y="2357280"/>
            <a:ext cx="492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а+6 – 45 · 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ве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571840" y="1571760"/>
            <a:ext cx="471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7 · 9 = 6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500120" y="2571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20 · у + 50 = 89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раве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1428840" y="1357200"/>
            <a:ext cx="58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а+б        45 · 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3000240" y="1428840"/>
            <a:ext cx="9144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2214720" y="2428920"/>
            <a:ext cx="418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в          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3000240" y="2571840"/>
            <a:ext cx="91440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1000"/>
          </a:bodyPr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195640" y="1484280"/>
            <a:ext cx="640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у-4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7200" spc="-1" strike="noStrike">
                <a:solidFill>
                  <a:srgbClr val="0066ff"/>
                </a:solidFill>
                <a:latin typeface="Arial"/>
              </a:rPr>
              <a:t>·3=1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Научиться находить корень составного уравн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1.Читаю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2.Расставлю порядок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3.Нахожу последнее дей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4.Нахожу выражение с переме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5.Закрою выражение с переменной </a:t>
            </a:r>
            <a:r>
              <a:rPr b="1" lang="ru-RU" sz="3200" spc="-1" strike="noStrike">
                <a:solidFill>
                  <a:srgbClr val="ff0000"/>
                </a:solidFill>
                <a:latin typeface="Cricket"/>
              </a:rPr>
              <a:t>Х</a:t>
            </a: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6.Решаю простое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9:22:38Z</dcterms:created>
  <dc:creator>User</dc:creator>
  <dc:description/>
  <dc:language>en-US</dc:language>
  <cp:lastModifiedBy>Елена</cp:lastModifiedBy>
  <dcterms:modified xsi:type="dcterms:W3CDTF">2013-03-19T06:23:08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